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DBFD4-255A-4113-AD2A-552A5DC9F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F52A-61F6-4630-B7B7-5791019B0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292B-A7E8-4ADC-8D7F-F0C8D9E34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5D1A-2661-4B11-8FD0-21C04153A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6D46-E3FC-4F11-AB2D-4ADD8BD2F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B6A9-A561-4C67-8C86-C3F355925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AAF4-AED2-493D-8901-50D62A592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F57E-1248-4EE8-94BF-525E3E86E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ACE1-D22D-42EE-B72E-B9907FA95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7DCA-1676-4AC0-A74C-41BBC841D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2D5FA-EC7F-461A-BA95-506DE0FD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D329-8B3E-4774-A29E-40D967D94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25C6-5B37-4427-8960-6A176FA00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EB3A-A030-4D4A-B7E3-A4A77DB86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85EB-578E-4BCF-BEBA-5E76425C3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D29D-5FD1-40E2-A56A-B8E26F909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3285-94EF-408E-B17F-D1F82033F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D8E6-778D-45D5-BF62-09833CE7B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03780-90F4-4F34-81A3-E6A44AED2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E03D-252A-485A-A13E-1586FF04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6625-532A-4C46-9ABD-28477EDB7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4540-F453-42BE-9DFA-D064DB53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EFEF-BDF1-417C-8D5E-723BBBEA7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539C-300F-49A7-A1DE-27EBABD80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1C87-09C8-42EC-82CB-39B6D442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5F92-34CF-4443-8A1E-9DBA3B78C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4A8E-E098-49EB-8FFA-AA9E3279F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368B-35F4-40D7-87EF-29CD309CE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5752-2CF5-46A5-80CE-783EBA636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47AC-2217-4B30-B442-99A658F9B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9440-6A17-4552-9D03-E8DA116FC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E111-5029-4DBE-8273-9CED5FA21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0E45-6723-4C0C-80CD-8D073E16F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DEB7-7682-43A6-9EA8-CDBB06382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0EF1-613E-44CB-A9AA-326653DCB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F033-780F-4E6F-9F34-7F1BCB97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73C1-675A-405E-BD94-F682E669B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457-1B9B-443F-B481-608AFCD1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6CF-D2FA-47A9-AE73-ED9669F8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12B-65E9-4045-965E-98EB77A5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BDCC-F39F-4B28-9DDB-5660AE9E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FF7D-867C-4394-B6F0-681D9DFE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414-2124-4E26-9B82-2FF55421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435-4808-4AC6-B83A-F8030333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F6F4-683F-43D6-878F-A4E2BD4F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FE40-4928-4EA1-BA73-222A86CF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877-36A7-4923-85F9-78006A25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311-E311-4E1B-8B97-A866C70B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FEE8-94E9-4141-88F8-74B505CC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FF46-6726-4288-9DAB-3C15661E79DB}" type="slidenum">
              <a:rPr b="0" lang="sr-Latn-C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А С Т В О Р 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es</a:t>
            </a:r>
            <a:r>
              <a:rPr b="0" lang="sr-Latn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305320" y="5805360"/>
            <a:ext cx="29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</a:rPr>
              <a:t>Проф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. др Ана Барјакт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844280" y="1773360"/>
            <a:ext cx="56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АРМАЦЕУТСКА ТЕХНОЛОГ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и природа супстанце која се раств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1640" y="1988640"/>
            <a:ext cx="8686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лекулска маса</a:t>
            </a:r>
            <a:r>
              <a:rPr b="0" lang="ru-RU" sz="20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м молекулске масе повећавају се интермолекуларне силе, при чему се смањује растворљив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личина честиц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тњавањем честица омогућава се већа додирна површина између растварача и растворене супстанц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 доводи до повећања растворљиво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 облик:  цис форма је растворљивија у односу на тран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ператур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пљењ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упстанце са високом тачком топљења имају ниску растворљивост (сулфадиаз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 253 ºC – 1 g у13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сулфатиазол: Tt 174 ºC – 1 g у 1,7 d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стална структу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ложај молекула растварача, различити полиморфни облици (стероиди, барбитурати, сулфонамиди) и различит број солватисаних молекула растварача у кристалној решетки, доводе до значајних разлика у брзини растварања – утицај на биорасположивост. Аморфни облици се брже растварају од кристалн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и природа раствар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пол моменат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арни растварачи (нпр. вода) имају велики диполни моменат. При додавању јонске материје у поларни растварач, формирају се јонски парови што условљава брзо растварањ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и растварачи могу да “кидају” ковалентне везе поларних супстанци, што доводи до солватације ослобођених анјона и катјо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ларни растварачи имају ниску диелектричну константу и растварају неполарне лек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2285640"/>
            <a:ext cx="814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е лековите супстанце и помоћне материје су слабе базе или слабе киселине. Њихова растворљивост знатно варира у зависности о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 сред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су растворљивији у води од неутралних молекула па се повећање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 средине повећа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јонизације киселине и растворљивост у води (барбитурати, сулфонамиди ит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вање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 средине повећава се степен јонизације слабих база и повећава растворљивост у води - алкалоиди (атропин, кодеин, морфин), антихистаминици (дифенхидрамин, прометазин), локални анестетици (прокаин, тетракаи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супстанци при растварању апсорбује топлоту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терман процес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терман процес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Са(ОН)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Up Arrow 3"/>
          <p:cNvSpPr/>
          <p:nvPr/>
        </p:nvSpPr>
        <p:spPr>
          <a:xfrm>
            <a:off x="1332000" y="3789360"/>
            <a:ext cx="287280" cy="433440"/>
          </a:xfrm>
          <a:prstGeom prst="upArrow">
            <a:avLst>
              <a:gd name="adj1" fmla="val 50000"/>
              <a:gd name="adj2" fmla="val 5001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Up Arrow 4"/>
          <p:cNvSpPr/>
          <p:nvPr/>
        </p:nvSpPr>
        <p:spPr>
          <a:xfrm>
            <a:off x="3851280" y="3789360"/>
            <a:ext cx="289080" cy="433440"/>
          </a:xfrm>
          <a:prstGeom prst="upArrow">
            <a:avLst>
              <a:gd name="adj1" fmla="val 50000"/>
              <a:gd name="adj2" fmla="val 4997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356000" y="5661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вор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4356000" y="378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творљ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2195640" y="479736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Up Arrow 8"/>
          <p:cNvSpPr/>
          <p:nvPr/>
        </p:nvSpPr>
        <p:spPr>
          <a:xfrm>
            <a:off x="1332000" y="5661000"/>
            <a:ext cx="287280" cy="432000"/>
          </a:xfrm>
          <a:prstGeom prst="upArrow">
            <a:avLst>
              <a:gd name="adj1" fmla="val 50000"/>
              <a:gd name="adj2" fmla="val 5003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1835280" y="5661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wn Arrow 12"/>
          <p:cNvSpPr/>
          <p:nvPr/>
        </p:nvSpPr>
        <p:spPr>
          <a:xfrm>
            <a:off x="3851280" y="5661000"/>
            <a:ext cx="289080" cy="43200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190800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ЗА ПОВЕЋАЊЕ РАСТВОРЉИВ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модификација моле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 косолв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тропиј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уб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модификација моле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349000"/>
            <a:ext cx="8229600" cy="34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 хидрофилн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, COOH, NH</a:t>
            </a:r>
            <a:r>
              <a:rPr b="0" lang="sr-Latn-R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већава раствор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е соли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фенобарбитал) – повећава раствор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фикација – смањује растворљивост у води (маскирање непријатног укуса лека, заштита од деградације у ГИТ-у), повећање апсорпције (еритромицин пропион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м компоненте која формира интермолекуларне комплексе са тешко растворном супстанцом повећава се растворљив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комплесирање са циклодекстрин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 косолвен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 неполарних молекула може се повећати додатк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 супстанце мале поларности која се меша са водом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лвенс. Нпр. етанол, глицерол, пропиленгликол итд. Концентрација косолвенса је ограничена физиолошком подношљивошћ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троп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помоћних материја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тропни агенси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 лако растворних у вод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соким концентрацијама (20-50%). Нпр. натријум-бензоат, натријум-салицилат.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уб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ак површински активних материја (ПАМ) тј. солубилизатора - у малим концентрацијама имају особину да смањају површински или међуповршински нап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солубилизатори користе се ПАМ са ХЛБ вредношћу 15-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убилизатори официнални у Југословенској фармакопеји 2000: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лисорбат 20, 60, 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у фармациј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стварање витамина А и Д, анагетика, етарских уља, антиоксиданса, антимикробних средстава, антикоагуланаса, барбитурата, кортикостероид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апликују (педијатрија, геријатр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је растворен - бржа апсорп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 је хомогено дистрибуи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иритације желудачне слузокоже (у поређењу са таблет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ставнији за производњу од других дозираних обл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</a:t>
            </a:r>
            <a:r>
              <a:rPr b="1" lang="ru-RU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ијска нестабилност лековите супстанце (хидролиз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гућност формулације свих лекова у облик раство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а контаминација (нарочито водени раствор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дозирања вишедозних препарата зависи од пациј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ијатан укус лека је израженији у раствору него у чврстом обл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95280" y="2303640"/>
            <a:ext cx="82296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ПРАВИ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</a:rPr>
              <a:t> -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једнофа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(d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10</a:t>
            </a:r>
            <a:r>
              <a:rPr b="1" lang="sr-Latn-CS" sz="2800" spc="-1" strike="noStrike" baseline="30000">
                <a:solidFill>
                  <a:srgbClr val="ff0000"/>
                </a:solidFill>
                <a:latin typeface="Times New Roman"/>
              </a:rPr>
              <a:t>-9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ЛОИДН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ишефа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(10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-9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УБ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УСПЕНЗИЈЕ И ЕМУЛЗИЈЕ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sr-Latn-CS" sz="2600" spc="-1" strike="noStrike" baseline="30000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</a:rPr>
              <a:t> m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8440" y="9694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раствора према величини честица растворка: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626840" y="22766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2060280"/>
            <a:ext cx="896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растварач је вод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кономична и нетоксич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qua purificata,  Aqua demineralisata,  Aqua  pro injec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ени растварачи се користе када је супстанца недовољно растворна или недовољно стабилна у воденом систе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одени раствори су ограничени на интрамускуларну и топикалну примену због токсичности и иритирајућег деј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коришћени неводени растварачи су: етанол, глицерол, пропиленгликол и биљна уљ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тан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ајчешће коришћени органски растварач у фармацеутским препаратима. Користи се  као кословенс у оралним, топикалним и парентералним растворим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 нежељеног фармаколошког деловања и потенцијалне токсичности, у препаратима за децу се користи у ограниченим количинама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95280" y="3500280"/>
            <a:ext cx="856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пиленглик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косолвенс у оралним, топикалним, парентералним и растворима за 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Глицер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растварач или корастварач у комбинацији са водом у оралним и парентералним раствор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иљна уљ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маслиново, кукурузно, сусамово...) – некада коришћена у формулацији интрамускуларних препарата, данас замењена синтетичким (етилолеа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061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гословенска фармакопеја 200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h.Jug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ечни препарати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алну употребу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RS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quida per oral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ечни препарати за спољашњу употребу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R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quida ad usum dermicum)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пи за уши, у монографији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sr-Latn-CS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ricularia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пи за нос, у монографији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sr-Latn-CS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salia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ктални раствори и суспензије (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emata</a:t>
            </a:r>
            <a:r>
              <a:rPr b="0" lang="ru-RU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лизме), у монографији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tali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апи за очи, лосиони за очи (у оквиру монографије Препарати за очи –</a:t>
            </a:r>
            <a:r>
              <a:rPr b="0" lang="ru-RU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cularia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Инјекције, интравенске инфузије, концентрати за инј. и и.в инфузије (у оквиру монографије –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enterali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репарити за иригацију -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parationes ad irrigation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Течни препарати за инхалацију; течни препарати за распршивање (небулизацију); препарати за инхалацију под притиском и са дозатором (у оквиру монографије </a:t>
            </a:r>
            <a:r>
              <a:rPr b="0" lang="ru-RU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–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land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ографије раствора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Ph.Eur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, 8, 9, 10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a1617"/>
                </a:solidFill>
                <a:latin typeface="Times New Roman"/>
                <a:ea typeface="Times New Roman"/>
              </a:rPr>
              <a:t>Поред препарата које води  </a:t>
            </a:r>
            <a:r>
              <a:rPr b="0" lang="en-US" sz="2000" spc="-1" strike="noStrike">
                <a:solidFill>
                  <a:srgbClr val="1a1617"/>
                </a:solidFill>
                <a:latin typeface="Times New Roman"/>
                <a:ea typeface="Times New Roman"/>
              </a:rPr>
              <a:t>Ph.Jug. V, Ph.Eur.  садржи и монограф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)оралне капи и сирупи (у оквиру монографије течни препарати за пероралну примену –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es liquide perorali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гргљање; раствори за испирање уста; раствори за десни; раствори за оралну слузокожу; капи за оралну слузокожу; спрејеви за оралну слузокожу и сублингвални спрејеви (у оквиру монографије Препарати за оралну слузокожу –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ationes bucc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за вагиналну примену (у оквиру монографије Препарати за вагиналну примену – 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ginali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чни препарати за оралну употребу </a:t>
            </a:r>
            <a:br>
              <a:rPr sz="2600"/>
            </a:br>
            <a:r>
              <a:rPr b="1" i="1" lang="sr-Latn-C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quida peroralia</a:t>
            </a:r>
            <a:br>
              <a:rPr sz="28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, суспензије, емулзије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или неразблажен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рема из концентрованих раствора, прашкова, гранула, таблета, коришћењем одговарајућих вехикулума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или више лековитих супстанц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ерванси (натријум-бензоа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арабени (естри пара-хидроксибензојеве кис.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лијум-сорба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иоксиданси (аскорбинска киселина, натријум-метабисулфит, лимунска киселина и ЕД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ства за повећање вискозитета, емулгатор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вашење, солубилизатор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тори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за корекцију укуса и мириса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е бо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зи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и препарати (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дозни препарати (дозирање на кашичицу или капаљко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 на кап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парати који се дозирају на капи на сигнатури морају имати податак о броју капи у 1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 препар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3718080" y="2627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9280" y="1152360"/>
            <a:ext cx="40323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А КАШИЧИЦА = 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ЛИКА КАШИКА = 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НДАРДНА КАПАЉ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капаљка чији је спо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шњ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мер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промер отвора 0,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При температури од 20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п воде која капа из цеви када је она у вертикалном положају изно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gtt = 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 m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Pratite uputstva: Vreme je za sirup! - Mamaibeba.com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3090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F:\Far.tehnologija 1\2021 22\download.jpg"/>
          <p:cNvPicPr/>
          <p:nvPr/>
        </p:nvPicPr>
        <p:blipFill>
          <a:blip r:embed="rId2"/>
          <a:stretch/>
        </p:blipFill>
        <p:spPr>
          <a:xfrm>
            <a:off x="5435640" y="3500280"/>
            <a:ext cx="3110040" cy="23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се за израду раствора или суспензија користе прашкови и грануле, произвођач мора да назначи следећи подат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зраде (реконститу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 чув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употребе реконституисаног раствора или суспенз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, паковању, чувању и дистрибуцији мора да с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збеди микробиолошка чистоћ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е супстанц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ероралним раствори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колит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анем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 лаксати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оидни аналгет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 активне супстанце изражава се у mg/ml или mg/5ml препа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раствора према агрегатном стању</a:t>
            </a:r>
            <a:r>
              <a:rPr b="1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920" y="28526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и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еше гасова - вазду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асови, течности или чврсте супстанце растворене у течном растварач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аствори метала или једињења у чврстој фаз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легу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ит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 (суспензије као једнодозна паков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 (раствори и емулзије као једнодозна паковањ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дозирања и уједначеност дозе (кап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а чистоћа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атегорија 3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880" y="119700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хтеви које треба да задовоље раствори за  оралну приме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љив укус (средства за корекцију укуса и мири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је обично 7 али се толерише опсег 2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1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и вискоз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0616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чни препарати за спољашњ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потреб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quida ad usum dermic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спољашњу примену, различитог вискоз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 за примену на кожу у циљу постизања локалног делов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 раствори, суспензије и емулз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ну или више лековитих супстанци у одговарајућем вехикулу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: конзерван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нтиоксиданси, средства за повећање вискозитета, емулгатори, солубилизатори, стабилизато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течних препарата за спољашњу примену (Ph. Jug. V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мпо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се наносе на оштећену кожу морају бити стерил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е супстанце: антисептици, дезифицијенси, антимикотици, кортикостероди, НСАИ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препарат декларисан као стерилан мора се испитати стерил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уши, у монографији </a:t>
            </a:r>
            <a:r>
              <a:rPr b="1" i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uricu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намењени за примену у ушни кан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ну или више лековитих супстанци у одговарајућем вехикулу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ћне материје: за подешавање тоничности, вискозитета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и, као и конзерванси, средства за побољшање растворљивости лековитих супстанци и стабилизато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, суспензије или емулзије једне или више лековитих супстанци у одговарајућем вехикулум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или неводени раствори намењени за примену у ушни канал у циљу постизања антииннфламаторног, аналгетског ефекта или уклањања церумен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хикулуми за израду раство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вода, глицерол, безводни глицерол, полиетиленгликол (ПЕГ) 300 и 400, пропиленгликол, мешавина глицерола, полиетиленгликола и воде, минерална уља, биљна уљ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парати за уклањање церумена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е ПАМ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етаноламин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ипептид-олеат, препарат урее у глицеролу и вод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парати са антиинфективним, антиинфламаторним и аналгетским деловањ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ни вехикулуми омогућавају довољно дуг контакт између лека и тки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а хигроскопност помаже у извлачењу влаге из упаљеног ткива и тако смањује инфламациј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смањења бола, који често прати инфекцију уха додају се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гети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антипирин) и локални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естетици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идокаин, бензокаин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тиинфламатор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генси најчешће су кортикостероиди (хидрокортизон, дексаметазон- натрију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тибиотиц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хлорамфеникол, гентамицин-сулфат, неомицин-сулф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е су комбинације антибиотика и кортикостерои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цидификацију ушног канала користи се 2% раствор сирћетне киселине у раствору алуминијум-ацетата или раствор борне киселине у изопропил алкохолу, етанолу или пропиленгликолу. Ограничена је употреба код деце због могућности апсорпције преко оштећене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: стерилност препарата код којих се то захт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нос, у монографији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s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ru-RU" sz="28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(раствори, суспензије, емулзије) намењени за примену у носну шупљину, у циљу постизања локалног и/или системског делов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да иритирају место примене, нити да ометају функцију слузокоже носа или цили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вишедозни препарати (са апликатором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43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вори за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конгестију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алне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зо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и, изотонични са назалном течношћ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алне течности је 5,5 - 6,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: к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зерванс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ензалконијум-хлорид, хлорбутанол, тиомерсал, фенилмеркури-нитрат или ацетат);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билизатори и средства за подизање вискозитет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тил-целулоза, ХПМЦ, поливинил алкохол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- ринитис (3 – 5 дан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е компоненте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рдрин-хлорид,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азолин-хлорид, фенилефрин-хлорид.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24000" y="1717560"/>
            <a:ext cx="838188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створи су хомоге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једнофазни  термодинамички стабилни системи који се састоје од две или више компонен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olutiones medicinal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(Ph Jug. IV) – течни, бистри препарати који садрже једну или више лековитих супстанци растворених у одговарајућем растварач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. Jug. V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води течне лековите препарате: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iquida peroralia, Liquida ad usum dermicum, Auricularia, Nasal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324000" y="98100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вори за испирање но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, изотонични раствори, намењени за чишћење носне шупљ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примењују на оштећене делове носне шупљине или при хируршким интервенцијама морају бити стерилн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З Р А Д А раств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м активних и помоћних супстанци у одговарајућем растварачу или смеши растварача, са или без додатка посредника за раствар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вера: начина прописивања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доза или концентрација, компатибилности састојака и начина примен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се односи на тежински %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вери доза раствора за унутрашњу употребу, обратити пажњу на запремину (кашичица или кап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раствора за спољашњу употребу % лековите супстанце се упоређује са средњим концентрацијама датим у Фармакопеји.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395280" y="1484280"/>
            <a:ext cx="80643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ма посебних упутстава за рад, осим да се по потреб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трирају (обојени раствори- обавезно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бор одговарајуће амбалаж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екватно сигни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хтеви које треба да задовоље раство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абилност и прихватљивост од стране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терилност за парентералне и окуларне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ихватљив укус за оралне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зотоничност и изохидричност за парентералне раств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икробиолошки квалите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s://www.youtube.com/watch?v=boRRoAwjy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748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√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оралну прим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више од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х бактерија и не више 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спољашњу употреб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e816ca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од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х бактерија 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еробактерија и неких других Гра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их бактер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ilococcus aur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 за спољашњу и унутрашњу употребу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ENDUM + SOLVENS = SOLU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ч је фаза у којој се врши дисперговање растворне супстанце /дисперзно средство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на супстанца је компонента која се диспергује у растварачу у облику малих молекула или јона /диспергована супстанца-растворак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су молекулске или јонске диспер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6868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симална количина супстанце која може да се раствори у одређеној запремини растварача при константној температури 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центрација засићеног раствора на одређеној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ператур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мперату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стварању долази до раскидања интермолекуларних привлачних сила измећу молекула растворене супстанце и молекула растварача да би се формирала веза између молекула растворене супстанце и раствара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F:\Far.tehnologija 1\2021 22\III nedelja\shema rastvorljivosti.jpg"/>
          <p:cNvPicPr/>
          <p:nvPr/>
        </p:nvPicPr>
        <p:blipFill>
          <a:blip r:embed="rId1"/>
          <a:stretch/>
        </p:blipFill>
        <p:spPr>
          <a:xfrm>
            <a:off x="324000" y="2060640"/>
            <a:ext cx="8229600" cy="28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Југословенска фармакопеја 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600200"/>
          <a:ext cx="8229600" cy="478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31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СТВОРЉИВО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 15 и 30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°</a:t>
                      </a:r>
                      <a:r>
                        <a:rPr b="1" lang="sr-Latn-CS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Запремина растварача у</a:t>
                      </a:r>
                      <a:r>
                        <a:rPr b="1" lang="sr-Latn-C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ml </a:t>
                      </a:r>
                      <a:r>
                        <a:rPr b="1" lang="sr-R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</a:t>
                      </a:r>
                      <a:r>
                        <a:rPr b="1" lang="sr-Latn-C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1 g </a:t>
                      </a:r>
                      <a:r>
                        <a:rPr b="1" lang="sr-RS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створне супстан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ло лако 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ко 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1 do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10 d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мерено 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30 do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шко 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100 do 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ло тешко 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 1000 do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главном нераствор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растворљив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263700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супстанце која се раст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раствар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вање с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2:02Z</dcterms:modified>
  <cp:revision>203</cp:revision>
  <dc:subject/>
  <dc:title>Slide 1</dc:title>
</cp:coreProperties>
</file>